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9907B53-F109-49B3-BE8F-943EF7BE1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y institutional histories and how they are different from process 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4830C9F-FA83-4386-AB88-66699A0DD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BDC73FA-804E-4673-9074-90C1DC534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B6E73C9-42D5-4127-B7B8-EFB13C81E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E0AF36B-7652-4FD0-BFCB-328180BB8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79CFFE9-D5A2-482E-BE99-5DF555B25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5B11-F372-48AF-B9F0-7A1DFF86F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1ECB-9444-4795-BEE4-D0905141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07D9-3DF2-4FE2-9ECC-A550492A4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25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57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25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57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66F5-CD11-43DC-A184-FB5189593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A1AE-7028-4282-94BB-333AFE09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CF47-2DCE-4870-B439-5CCCA65B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AC96-9663-40B6-9537-758934B4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E13E-5724-4ED7-9A94-A7F01955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4126-1BF2-4B95-8C26-F0F28187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927E-1C8E-44E1-817E-7F711BC7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06CA-FB1D-41B4-8836-6D016744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A2CE-AD41-4E36-858C-3F7EA188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8F5E-02DA-425B-8341-DE1FBF4DBC5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30A3-0FCE-4326-8E9D-CE644A0BD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80720" y="2282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0033"/>
                </a:solidFill>
                <a:latin typeface="Calibri"/>
                <a:ea typeface="Calibri"/>
              </a:rPr>
              <a:t>Institutional histories</a:t>
            </a:r>
            <a:br>
              <a:rPr sz="4400"/>
            </a:br>
            <a:r>
              <a:rPr b="1" lang="en-GB" sz="4400" spc="-1" strike="noStrike">
                <a:solidFill>
                  <a:srgbClr val="990033"/>
                </a:solidFill>
                <a:latin typeface="Calibri"/>
                <a:ea typeface="Calibri"/>
              </a:rPr>
              <a:t>Background &amp; rationale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523880" y="1752480"/>
            <a:ext cx="74678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Institutions are the rules, norms, conventions and incentives and sanctions that govern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Institutional histories are narrative of the ways of working that stem from rules, conventions, and routines governing behaviour  (Prasad et al, ILAC brief # 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Rationale: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 institutions assume particular importance  when organizations with different histories, cultures and mandates work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A374-E4C2-406A-BFDF-D84D81336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600200" y="11430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  <a:ea typeface="Calibri"/>
              </a:rPr>
              <a:t>New working practices of different organizations must be documented becaus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strong technological narrative tends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  <a:ea typeface="Calibri"/>
              </a:rPr>
              <a:t> to ignore the role of institutional change in achieving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  <a:ea typeface="Calibri"/>
              </a:rPr>
              <a:t>Institutional innovations is crucial for research organisations 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to cope with changing development agenda’s which demand partnerships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  <a:ea typeface="Calibri"/>
              </a:rPr>
              <a:t>with non research organisations in the innovation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Institutional histories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draw institutional lessons from what works or does not work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 and promotes new working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8BE9-7959-4BF8-88BE-279BC4E49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80720" y="228240"/>
            <a:ext cx="67820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0033"/>
                </a:solidFill>
                <a:latin typeface="Calibri"/>
                <a:ea typeface="Calibri"/>
              </a:rPr>
              <a:t>Background and rationale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0033"/>
                </a:solidFill>
                <a:latin typeface="Calibri"/>
                <a:ea typeface="Calibri"/>
              </a:rPr>
              <a:t>Principle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905120" y="1142640"/>
            <a:ext cx="71625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  <a:ea typeface="Calibri"/>
              </a:rPr>
              <a:t>Different types of organisations must work together for an institutional innovation to emanat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 because the rules and norms of working together must change for an institutional innovation to occ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Further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Prasad et al, (2006), ILAC breif  #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Douthwaite &amp; Ashby (2005), ILAC breif #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Used by the fodder innovation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Shambu Prasad C, Hall AJ and Wani SP. 2005.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Institutional history of watershed research: The evolution of ICRISAT’s work on natural resources in India.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 Global Theme on Agroecosystems Report no. 12. Patancheru 502 324, Andhra Pradesh, India: International Crops Research Institute for the Semi-Arid Tropics. 40 p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B31F-15C8-48A3-B4CF-4D4DAC39B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D6F2-584C-4B6A-9CD1-9E56CE380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676520" y="152280"/>
          <a:ext cx="7315200" cy="6532560"/>
        </p:xfrm>
        <a:graphic>
          <a:graphicData uri="http://schemas.openxmlformats.org/drawingml/2006/table">
            <a:tbl>
              <a:tblPr/>
              <a:tblGrid>
                <a:gridCol w="1981080"/>
                <a:gridCol w="3886200"/>
                <a:gridCol w="14479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roc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Key ques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Wh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39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takeholder sel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ho do we select to participate in the institutional historie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hy will they be selecte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ow will they be selecte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spective Nile Stakehol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dentification of the iss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s informed by several on going ways of working and outputs such as the MSC, KAP, platforms in N2 and N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xternal facilit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velopment of the institutional innov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hat are the institutional innovations at the project level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hy is this an institutional innovatio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hat are we learning from this institutional innovatio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xternal facilit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65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rapping it up at the BDC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hat is the overall institutional innovation at the NBDC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hat do we learn at BDC level form the collective institutional innov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DC memb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0033"/>
                </a:solidFill>
                <a:latin typeface="Calibri"/>
                <a:ea typeface="Calibri"/>
              </a:rPr>
              <a:t>2013?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904760" y="990720"/>
            <a:ext cx="7010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KAP surveys at the community level included in the evaluation surv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Most significant change at platform and community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Institutional histories comple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Project level evaluation studies conducted at the household level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42DA-8D04-4C2C-AF95-59471DEE4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09:32:33Z</dcterms:created>
  <dc:creator>sat</dc:creator>
  <dc:description/>
  <dc:language>en-US</dc:language>
  <cp:lastModifiedBy>mmulatu</cp:lastModifiedBy>
  <dcterms:modified xsi:type="dcterms:W3CDTF">2012-05-23T06:57:47Z</dcterms:modified>
  <cp:revision>241</cp:revision>
  <dc:subject/>
  <dc:title>PowerPoint Presentation</dc:title>
</cp:coreProperties>
</file>